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314-E723-4147-A9DC-7B0B2EA8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216-2103-42F6-BEF4-3D1968F7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D40-DEF3-420B-84B9-C2BD68F3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000-85CA-43C3-8A24-AF5532D8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ECD6-ACEF-4350-BB96-A3D0817F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C1B4-A373-4819-A515-0CADEFC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3EE0-B624-4C4E-8432-3D1A3DED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0154-B144-4B29-9454-81D958C5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540D-53BD-4EAE-B644-2B4C9310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0343-A8C5-4B62-947B-7A2F3A94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B39E-7B1A-4A01-8430-1BFE33CE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ACA-336D-4FFF-ACF7-9312C3E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A999-26E7-4EC7-B6A5-759390DB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8D9A-9A76-4E38-BBE1-5E5FCAB7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DC31-BA07-4C8E-B330-105785DB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7FA3-472B-490E-92FC-6275E048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0EC1-BAE6-4766-807D-437A8B20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ECE9-9AE9-4309-85EA-5A769484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4F3A-C201-47F7-A692-607455F0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E6E4-7C8E-4DD4-93F0-DE87061A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176E-0FDC-4908-8049-82A04EF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16FB-65EC-4E33-BAE6-94913143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1D4-82FA-4E6A-A4EA-112B72A8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A102-C539-4C5B-97C4-9D6F0F7F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FB7A-47C5-4B8B-96C1-38635AC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74310-F869-4525-A7DA-279665B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7B2F-DFF3-4683-B7F6-035E07CD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DCD1-F2D8-47CB-AD3A-9E3505B0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A66A1-44C4-4E11-BABE-216B0CEE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7151-926D-4738-843C-F916C7F3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BBC7-6B2B-4F58-9202-C0B85C32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13B1-547C-49AC-A5A8-5B25E637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C703-DD03-4F59-A6B1-A7EA114D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4AB-C623-4150-866E-EFBA582C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AB89-39F4-482A-A6FA-0B06947A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2AE6-4192-48F4-8CF7-7E8C994A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92A6-3E4D-4757-97BF-C6F46935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D87D-07F6-43D3-B85A-A80CCA9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31EC-6363-4C50-836C-73A94AEA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9E19-7937-495A-BC0B-515ABFB5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17908-C1C3-4467-A39E-7A410F16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A483-8DFE-4BB9-8BF5-62377875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0BEF-1D3C-4962-A6C9-07155B11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153-994F-441E-AB2A-9A4A4890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DA0-981B-4085-9004-5AC041CD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190-083D-4460-B8F6-B27E46EE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AE5-C7A2-4045-8E03-B4D1E8FF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FD0-C0E8-47C6-8BF9-5E2906B4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CC9-EA00-475B-B091-9A63274F70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809-B43B-4248-9E09-C850B2A717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3E0A-F198-4819-880D-0F54200000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263A-56A8-4BCD-ACA8-34DAEFCFA6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29718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Ken Na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Ol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121932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enge is Cru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short story, Cask of Amontillado,  Montressor kills Fortunato to get reve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tressor made the payback much worse than the original d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ves that revenge is cruel and can sometimes go extremely           overbo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9920" y="4343400"/>
            <a:ext cx="17938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lden Ru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tunato was cruel to Montressor and Montressor was cruel in retu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tunato should have expected Montressor to get e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unto others as you want to be tre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2116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ymb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l in the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s are hints of what’s going to be or what’s going to happen n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5:44:49Z</dcterms:created>
  <dc:creator>Milford Public Schools</dc:creator>
  <dc:description/>
  <dc:language>en-US</dc:language>
  <cp:lastModifiedBy>Milford Public Schools</cp:lastModifiedBy>
  <dcterms:modified xsi:type="dcterms:W3CDTF">2007-10-17T15:21:49Z</dcterms:modified>
  <cp:revision>4</cp:revision>
  <dc:subject/>
  <dc:title>Symbol</dc:title>
</cp:coreProperties>
</file>